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575-24E6-4B86-A7E6-E8755BB9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4A6-CE5D-4F0D-A7A4-6CE5E5D4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034-22ED-4E28-91F6-DF357D42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E7D-68AF-4C2C-B540-81C27849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12A-909D-408A-93E3-606012F1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567-293F-4194-9987-EC7ADC6B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06E-401F-41ED-8526-008F9A45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0D3-DB55-4C35-9848-0CEB5D9A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C9B-678F-4E8B-B4C7-309B26EE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9BD-A99B-48D1-853D-515EAB6A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AC1-FCAB-43F6-8709-EB59DECE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C1F-2C2B-4592-8BA1-65E8414A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A879D-8CD7-4CD0-8E96-B23C75F8A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What are the effects of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global warming on water manag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419640"/>
            <a:ext cx="5400720" cy="4140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0360" y="0"/>
            <a:ext cx="3240360" cy="4859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60360"/>
            <a:ext cx="64800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440000"/>
            <a:ext cx="719928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he only solution if we don't stop the global warming is to save drinking water and use rain and desalinated water to irrigate fie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4859280"/>
            <a:ext cx="2880000" cy="1800360"/>
          </a:xfrm>
          <a:prstGeom prst="wedgeEllipseCallout">
            <a:avLst>
              <a:gd name="adj1" fmla="val -84606"/>
              <a:gd name="adj2" fmla="val -3304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Save me, stop the global warming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68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Group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Manon PU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lexis VIG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Quentin LER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lexandre GATTEG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Marc-Antoine SAINT-P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179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Created by :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2160720"/>
            <a:ext cx="4500720" cy="467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troduction: Global W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Nowadays the world is warming, especially due to the human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here are lots of consequ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We will explain to you one of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Consequenc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melting of icebe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The consequences are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- Less drinking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- Increase in the salt water su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- Less icebe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0720" y="0"/>
            <a:ext cx="590076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There are a l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of solution b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20000" y="582624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20000" y="468000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920000" y="234000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920000" y="114624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920000" y="348624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920000" y="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7920000" y="636588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0" y="186696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0" y="72072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0" y="636588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0" y="306072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3"/>
          <a:stretch/>
        </p:blipFill>
        <p:spPr>
          <a:xfrm>
            <a:off x="0" y="414036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0" y="521964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2160720" cy="119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3060720"/>
            <a:ext cx="9711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we will base oursel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more particularly on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transformation of sal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water into drinking water and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collection of w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4930920" cy="4859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79280"/>
            <a:ext cx="90709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For the tranformation in drinking water we found a solution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actories of desalinazation plans :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ese factories used two method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e vacuum distillation, we heat the water until it boils and  evaporates, which leaves the salts and minerals u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4375080"/>
            <a:ext cx="907092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he second method is  the filtering of water with  very  thin membranes where only water can pass through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099280" y="-3780000"/>
            <a:ext cx="9576000" cy="684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0000" y="0"/>
            <a:ext cx="5400720" cy="395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4680000" cy="39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959280"/>
            <a:ext cx="624060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ut the drinking water from these factories are often use to irrigate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nd the desalinazation is very expensive because it needs a lot of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ut the salt can be s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300720" y="3960720"/>
            <a:ext cx="378000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60000" y="-360"/>
            <a:ext cx="9720360" cy="66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026000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fr-FR" sz="3600" spc="-1" strike="noStrike" u="sng">
                <a:solidFill>
                  <a:srgbClr val="ff0000"/>
                </a:solidFill>
                <a:uFillTx/>
                <a:latin typeface="Comic Sans MS"/>
              </a:rPr>
              <a:t>Second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We can also collect the rain in tank 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we can use to irrigate 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(Fields use 70% of water consomation)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We can't drink it because there aren't minerals</a:t>
            </a:r>
            <a:r>
              <a:rPr b="0" lang="fr-FR" sz="26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